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31DA-EB5A-43F7-850A-EC50362E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opmanscience.pbworks.com/w/page/36329924/Placement%20of%20the%20human%20body%20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cardio2/circui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irculatory_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3/06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singaporeanbiologist.wordpress.com/2011/10/10/the-structure-and-composition-of-bloo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FE9-057F-4D06-B551-C6A462E7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DFB-6320-4F3D-A286-EB52EB89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C43-FD31-48AD-AD6B-120A7453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C55-7E24-42C4-9F89-6F4F5836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603-9F77-485B-87BE-0FEDB879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B09-FB49-4007-B877-EB5271CD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E87-48F3-4B5A-8D87-E9E53241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543-95E8-44FF-AA2D-40B16616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9BA-ACA2-4D18-9045-52D55913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E7E-BEFE-4AFB-B26F-B55689D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C14-5E08-431E-868E-666B3FF1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85C-F77C-443A-A72A-8E35C91B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24D2-2359-4202-8491-B71EE46D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7wrBvyp4jQ" TargetMode="External"/><Relationship Id="rId2" Type="http://schemas.openxmlformats.org/officeDocument/2006/relationships/hyperlink" Target="http://www.youtube.com/watch?v=K4lGDFvYaCQ&amp;playnext=1&amp;list=PLQ-W-P3Fghv8ddxYMd39bKOYedg-POtWv&amp;feature=results_main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9 &amp; 3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57wrBvyp4j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 School B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K4lGDFvYaCQ&amp;playnext=1&amp;list=PLQ-W-P3Fghv8ddxYMd39bKOYedg-POtWv&amp;feature=results_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440" y="609480"/>
            <a:ext cx="609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ation of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on of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of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enance of 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tion of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6840" y="609480"/>
            <a:ext cx="480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b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undle of nerves that acts as p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asses nerve impulses to ventricles (causing them to contr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b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st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relaxation of the heart, when the chambers of the heart fill with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ntraction of the ventricles, when blood is pushed out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ry bl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ry bl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31840" y="3200400"/>
            <a:ext cx="500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%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%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%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7:00:14Z</dcterms:created>
  <dc:creator>rubina khan</dc:creator>
  <dc:description/>
  <dc:language>en-US</dc:language>
  <cp:lastModifiedBy>rubina khan</cp:lastModifiedBy>
  <dcterms:modified xsi:type="dcterms:W3CDTF">2012-11-27T17:33:48Z</dcterms:modified>
  <cp:revision>58</cp:revision>
  <dc:subject/>
  <dc:title>The Digestive System</dc:title>
</cp:coreProperties>
</file>